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6CC8-8EB3-4DB8-B9E9-D08E56AC85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0000"/>
                </a:solidFill>
                <a:latin typeface="Calibri"/>
              </a:rPr>
              <a:t>Введение в информа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CE22-5F7F-4562-9BEC-55E70F2D22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40000"/>
                </a:solidFill>
                <a:latin typeface="Calibri"/>
              </a:rPr>
              <a:t>Что такое информат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"информатика" (франц. informatique) происходит от французских слов information (информация) и automatique (автоматика) и дословно означает "информационная автоматик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о распространён также англоязычный вариант этого термина — "Сomputer science", что означает буквально "компьютерная наука"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0029-495F-457D-BFBB-3E420BA934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40000"/>
                </a:solidFill>
                <a:latin typeface="Calibri"/>
              </a:rPr>
              <a:t>Основные направления информати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азpаботка вычислительных систем и пpогpаммного обеспе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ия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процессы, связанные с передачей, приёмом, преобразованием и хранением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искусственного интелл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зволяющие создавать программы для решения задач, требующих определённых интеллектуальных усилий при выполнении их человеком (логический вывод, обучение, понимание речи, визуальное восприятие, игры и др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82F3-CB2F-4DCF-84ED-BBED777FB8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40000"/>
                </a:solidFill>
                <a:latin typeface="Calibri"/>
              </a:rPr>
              <a:t>Основные направления информати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ключающийся в анализе назначения проектируемой системы и в установлении требований, которым она должна отвеча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машинной графики, анимации, средства мультимеди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ства телекоммуни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том числе, глобальные компьютерные сети, объединяющие всё человечество в единое информационное сообще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нообразные при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3DD5-5DB1-4D00-BDAA-9DCE16BEB6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40000"/>
                </a:solidFill>
                <a:latin typeface="Calibri"/>
              </a:rPr>
              <a:t>Информатику обычно представляют </a:t>
            </a:r>
            <a:br>
              <a:rPr sz="1600"/>
            </a:br>
            <a:r>
              <a:rPr b="0" lang="ru-RU" sz="1600" spc="-1" strike="noStrike">
                <a:solidFill>
                  <a:srgbClr val="d40000"/>
                </a:solidFill>
                <a:latin typeface="Calibri"/>
              </a:rPr>
              <a:t>состоящей из двух частей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 средства, то есть аппаратура компьютеров, в английском языке обозначаются слов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ое буквально переводится как "твёрдые изделия"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ные средства, для них выбрано (а точнее, создано) очень удачное слов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буквально — "мягкие изделия"), которое подчёркивает равнозначность программного обеспечения и самой машины и вместе с тем подчёркивает способность программного обеспечения модифицироваться, приспосабливаться, развиваться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2964-65FD-46B9-A95D-AB5F63718F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5660-5558-47F5-992F-95B54803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F438-F46B-47F6-AF61-433AD8BB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451-C7EB-4E6A-99B9-D6BA168A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4B05-65A3-4727-A1B8-5D1F7C14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1F7E-B2A4-484D-93EE-6C30826B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B8A-E046-4528-BC8C-B0003A4A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498F-46E0-45BF-9E35-0FECB199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7A1-4546-4973-B969-C2531134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8A2-4C2E-44C2-B1DE-66B8F7E9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C04-357C-4BDF-90DE-967413F4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DB1-B8BB-4DF3-9111-6C1F7D79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4CD-3C31-4814-B68A-77B2C125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A03A-D011-4F62-9499-6B3DEC7C1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40000"/>
                </a:solidFill>
                <a:latin typeface="Arial"/>
              </a:rPr>
              <a:t>Введение в информат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OMP22"/>
          <p:cNvPicPr/>
          <p:nvPr/>
        </p:nvPicPr>
        <p:blipFill>
          <a:blip r:embed="rId1"/>
          <a:stretch/>
        </p:blipFill>
        <p:spPr>
          <a:xfrm>
            <a:off x="3276720" y="1844640"/>
            <a:ext cx="2043000" cy="3570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40000"/>
                </a:solidFill>
                <a:latin typeface="Arial"/>
              </a:rPr>
              <a:t>Что такое информат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мин "информатика" (франц. informatique) происходит от французских слов information (информация) и automatique (автоматика) и дословно означает "информационная автоматик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роко распространён также англоязычный вариант этого термина — "Сomputer science", что означает буквально "компьютерная наука"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0920" y="4149720"/>
            <a:ext cx="8642160" cy="21229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0" i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Информатик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— это основанная на использовании компьютерной техники дисциплина, изучающая структуру и общие свойства информации, а также закономерности и методы её создания, хранения, поиска, преобразования, передачи и применения в различных сферах человеческ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40000"/>
                </a:solidFill>
                <a:latin typeface="Arial"/>
              </a:rPr>
              <a:t>Основные направления информатик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азpаботка вычислительных систем и пpогpаммного обеспе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ия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учающая процессы, связанные с передачей, приёмом, преобразованием и хранением информ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искусственного интелл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яющие создавать программы для решения задач, требующих определённых интеллектуальных усилий при выполнении их человеком (логический вывод, обучение, понимание речи, визуальное восприятие, игры и др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2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40000"/>
                </a:solidFill>
                <a:latin typeface="Arial"/>
              </a:rPr>
              <a:t>Основные направления информатик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ный анали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ключающийся в анализе назначения проектируемой системы и в установлении требований, которым она должна отвеча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машинной графики, анимации, средства мультимеди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ства телекоммун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том числе, глобальные компьютерные сети, объединяющие всё человечество в единое информационное сообществ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ообразные при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68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40000"/>
                </a:solidFill>
                <a:latin typeface="Arial"/>
              </a:rPr>
              <a:t>Информатику обычно представляют </a:t>
            </a:r>
            <a:br>
              <a:rPr sz="2800"/>
            </a:br>
            <a:r>
              <a:rPr b="0" lang="ru-RU" sz="2800" spc="-1" strike="noStrike">
                <a:solidFill>
                  <a:srgbClr val="d40000"/>
                </a:solidFill>
                <a:latin typeface="Arial"/>
              </a:rPr>
              <a:t>состоящей из двух частей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ические средства, то есть аппаратура компьютеров, в английском языке обозначаются слов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ое буквально переводится как "твёрдые изделия"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ные средства, для них выбрано (а точнее, создано) очень удач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буквально — "мягкие изделия"), которое подчёркивает равнозначность программного обеспечения и самой машины и вместе с тем подчёркивает способность программного обеспечения модифицироваться, приспосабливаться, развиваться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c"/>
          <p:cNvPicPr/>
          <p:nvPr/>
        </p:nvPicPr>
        <p:blipFill>
          <a:blip r:embed="rId1"/>
          <a:stretch/>
        </p:blipFill>
        <p:spPr>
          <a:xfrm>
            <a:off x="5940360" y="1700280"/>
            <a:ext cx="2849760" cy="1771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progr"/>
          <p:cNvPicPr/>
          <p:nvPr/>
        </p:nvPicPr>
        <p:blipFill>
          <a:blip r:embed="rId2"/>
          <a:stretch/>
        </p:blipFill>
        <p:spPr>
          <a:xfrm>
            <a:off x="6012000" y="4005360"/>
            <a:ext cx="2752560" cy="2065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67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56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8:39:08Z</dcterms:created>
  <dc:creator>Sasha</dc:creator>
  <dc:description/>
  <dc:language>en-US</dc:language>
  <cp:lastModifiedBy>LEGION</cp:lastModifiedBy>
  <dcterms:modified xsi:type="dcterms:W3CDTF">2015-04-01T07:32:47Z</dcterms:modified>
  <cp:revision>8</cp:revision>
  <dc:subject/>
  <dc:title>Направления информатики</dc:title>
</cp:coreProperties>
</file>